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F64-9568-429B-A318-9644EF0F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943-BCDB-44B1-937F-137B365E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293-E9C4-46C3-9482-B7F353E9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35B-EA35-4548-A221-791A239F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E03-B2CD-4609-B390-6D66CC15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238-E4D8-4587-A4CA-A8DFE071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1C6-9DC8-41EA-980C-25346EA8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0FA-10D6-4848-88D8-1B167D81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20B-C74A-4806-9012-F738CBE0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1B8-ABDD-41E9-8A99-ED20C51E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CCA-70F7-4A7E-86FC-A57F1D78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F87-BC7E-4577-B726-831AEFA2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5DC2-B4F5-4AA6-B88E-11A2FFD7EB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ridgit.det.nsw.edu.a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bridgit softw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547380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tchie Duncan    Emmaville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 Belford         CAP Consul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37160" y="328464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Instructions for download and se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197000"/>
            <a:ext cx="7993080" cy="3311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Who has control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who creates the conference has control of the conference- they should share their deskto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who creates the conference must save the work to their desktop and share the file with the group by e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413000"/>
            <a:ext cx="8569080" cy="4537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116000" y="836640"/>
            <a:ext cx="6912000" cy="27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n't forget t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sconnect after 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ference has finish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720" y="5157720"/>
            <a:ext cx="91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the options under the menu items to disconn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218440" cy="633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et up BRIDGIT you need to download the bridgit.exe file from the websit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ridgit.det.nsw.edu.a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n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w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n fr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40544" b="61033"/>
          <a:stretch/>
        </p:blipFill>
        <p:spPr>
          <a:xfrm>
            <a:off x="1187280" y="1844640"/>
            <a:ext cx="6624720" cy="3255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4240" y="5589720"/>
            <a:ext cx="82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only be used inside the DET intran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the file to your desk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23367" b="29369"/>
          <a:stretch/>
        </p:blipFill>
        <p:spPr>
          <a:xfrm>
            <a:off x="755640" y="1068480"/>
            <a:ext cx="7704000" cy="5335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56360" y="3645000"/>
            <a:ext cx="433440" cy="1081080"/>
          </a:xfrm>
          <a:prstGeom prst="downArrow">
            <a:avLst>
              <a:gd name="adj1" fmla="val 50000"/>
              <a:gd name="adj2" fmla="val 6235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24000" y="314172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IDGIT icon will appear on your deskt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199280" cy="539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00360" y="3284640"/>
            <a:ext cx="2735280" cy="358560"/>
          </a:xfrm>
          <a:prstGeom prst="leftArrow">
            <a:avLst>
              <a:gd name="adj1" fmla="val 50000"/>
              <a:gd name="adj2" fmla="val 19071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00720" y="2349360"/>
            <a:ext cx="2409840" cy="185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0" y="2133720"/>
            <a:ext cx="2521080" cy="230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141720"/>
            <a:ext cx="8496000" cy="35272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ing a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jo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conference you will need to know the name of the conference and the password (if one is requi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9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Creating  a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07664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you want to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  conference you will need to name the conference and the password  and transmit to everyone in the conference before you actually start the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333360"/>
            <a:ext cx="8496000" cy="2519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Sound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using a headphone/ microphone set you need to enable the micro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using videoconferencing or telephone confections then DO NOT enable this option or the feedback will be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icon to start the program and follow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920000" cy="594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878000">
            <a:off x="6156000" y="3429000"/>
            <a:ext cx="431640" cy="1440000"/>
          </a:xfrm>
          <a:prstGeom prst="downArrow">
            <a:avLst>
              <a:gd name="adj1" fmla="val 50000"/>
              <a:gd name="adj2" fmla="val 834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32720" y="263700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or create a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-603360"/>
            <a:ext cx="9144000" cy="6951600"/>
            <a:chOff x="0" y="-603360"/>
            <a:chExt cx="9144000" cy="6951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0" y="-603360"/>
              <a:ext cx="9144000" cy="69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 txBox="1"/>
            <p:nvPr/>
          </p:nvSpPr>
          <p:spPr>
            <a:xfrm>
              <a:off x="0" y="-603360"/>
              <a:ext cx="9144000" cy="69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rot="20948400">
            <a:off x="5435640" y="2205000"/>
            <a:ext cx="1728720" cy="287280"/>
          </a:xfrm>
          <a:prstGeom prst="leftArrow">
            <a:avLst>
              <a:gd name="adj1" fmla="val 50000"/>
              <a:gd name="adj2" fmla="val 15043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2708280"/>
            <a:ext cx="1584360" cy="289080"/>
          </a:xfrm>
          <a:prstGeom prst="rightArrow">
            <a:avLst>
              <a:gd name="adj1" fmla="val 50000"/>
              <a:gd name="adj2" fmla="val 137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7971800">
            <a:off x="5914080" y="2686680"/>
            <a:ext cx="360360" cy="2880000"/>
          </a:xfrm>
          <a:prstGeom prst="upArrow">
            <a:avLst>
              <a:gd name="adj1" fmla="val 50000"/>
              <a:gd name="adj2" fmla="val 199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278136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Use a pass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198900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me your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65300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User’s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0139000">
            <a:off x="2843280" y="4797000"/>
            <a:ext cx="1873080" cy="289080"/>
          </a:xfrm>
          <a:prstGeom prst="rightArrow">
            <a:avLst>
              <a:gd name="adj1" fmla="val 50000"/>
              <a:gd name="adj2" fmla="val 16198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537372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ess OK when 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1052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ready to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1:31:46Z</dcterms:created>
  <dc:creator>Ritchie Duncan</dc:creator>
  <dc:description/>
  <dc:language>en-US</dc:language>
  <cp:lastModifiedBy>Sue Belford</cp:lastModifiedBy>
  <dcterms:modified xsi:type="dcterms:W3CDTF">2008-03-09T03:33:23Z</dcterms:modified>
  <cp:revision>17</cp:revision>
  <dc:subject/>
  <dc:title>Slide 1</dc:title>
</cp:coreProperties>
</file>